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891-885A-4927-B29E-FC265D60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E23-F317-4AB3-BFB5-BA3CCDF2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D6E-48F4-48D3-AEFE-A6D3392B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B3B-BF63-4002-8236-17FEE715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9AB-449B-448A-BF01-2BBE9D6F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72F-0700-4A37-9315-D30CC525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3AC-EEDC-44A4-8335-CCFD0A2D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CB2-9D1A-492F-B4E4-C9BCB7F3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1DE-EC20-409A-B486-E4F613A1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7EE-7B99-49FA-AAD5-CECA81E9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4F7-56A0-43DE-8E32-D38C22DF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F01-0A49-45AD-83D8-EDEAFC56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965D-51B4-406B-9215-F0361C34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age, Communication &amp; Disposal of data &amp;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s &amp; Information Systems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s to data &amp;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 &amp; Informa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thics, 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ral principles or guidelines that govern particular practices or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lst morally questionable, not against the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 &amp;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orkplace responsibilities, both employer &amp; 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des of conduct &amp; computer user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de of conduct, - behavior expected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puter use policy, establishing rights &amp; responsibilities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 &amp;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s of employers Vs privacy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browsing monitored by automatic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cookies to stor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ics &amp;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quette, means of regulating internet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mming, sending unsolicited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ts to data &amp;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 of data security vi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ches of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inc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: measures to minimise loss or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, Accidental Vs intentional dam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ional Da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viruses, payload is the action virus designed to carry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ms, attaching themselves to email messages, clog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king/C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kers gain unauthorised access and view data but not tam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ckers gain unauthorised access to damage, alter, destroy or st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Intentional Da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pering with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changed by personnel with access rights who sell information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intercepted whilst being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ft of information &amp; hardware &amp; vand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, Accidental da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older version of file over newer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ting a disk contain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orrectly shutting down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 file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extensions lef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ers improper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pment failure/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04:12:24Z</dcterms:created>
  <dc:creator>Kelvin Baird</dc:creator>
  <dc:description/>
  <dc:language>en-US</dc:language>
  <cp:lastModifiedBy>Kelvin Baird</cp:lastModifiedBy>
  <dcterms:modified xsi:type="dcterms:W3CDTF">2007-07-09T05:00:42Z</dcterms:modified>
  <cp:revision>3</cp:revision>
  <dc:subject/>
  <dc:title>Storage, Communication &amp; Disposal of data &amp; information</dc:title>
</cp:coreProperties>
</file>